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808-1E71-4FBE-88B0-3016D39C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789-5FBA-44DF-AC8D-99F5D6DB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5B9-B339-42E1-8D0B-B508E89E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E6C-739F-419D-8185-6966651B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A80-1B5D-475B-BDA6-38A27046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970-DC0C-4680-BC7E-3825715A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48D-A09C-448F-A0B0-9BFD0DB4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429-899A-46FB-A81D-070AC781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EF1-2504-425A-AEA4-F6B3EC44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79A-28A5-4B29-BC93-4EDAF567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961-2C7B-4A29-A877-48ED494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D42-4EB8-48E4-92A8-D0F49038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423A-79B9-44DD-B7B5-A31430EFE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76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er Presi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rter and Ford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9360" y="1484280"/>
            <a:ext cx="50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signed by Israel and Egypt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terms for peace in the Middle East (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75200" y="417600"/>
            <a:ext cx="388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agreements to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issues, nation’s rights,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 as reducing Cold War 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2520" y="5446800"/>
            <a:ext cx="30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allows the former h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Iran (Shah) in for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– Iranian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t and takeover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2:25:46Z</dcterms:created>
  <dc:creator>School District U46</dc:creator>
  <dc:description/>
  <dc:language>en-US</dc:language>
  <cp:lastModifiedBy>School District U46</cp:lastModifiedBy>
  <dcterms:modified xsi:type="dcterms:W3CDTF">2012-04-16T14:06:15Z</dcterms:modified>
  <cp:revision>7</cp:revision>
  <dc:subject/>
  <dc:title>Slide 1</dc:title>
</cp:coreProperties>
</file>